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24.png" ContentType="image/png"/>
  <Override PartName="/ppt/media/image3.wmf" ContentType="image/x-wmf"/>
  <Override PartName="/ppt/media/image33.wmf" ContentType="image/x-wmf"/>
  <Override PartName="/ppt/media/image14.wmf" ContentType="image/x-wmf"/>
  <Override PartName="/ppt/media/image6.png" ContentType="image/png"/>
  <Override PartName="/ppt/media/image25.png" ContentType="image/png"/>
  <Override PartName="/ppt/media/image10.wmf" ContentType="image/x-wmf"/>
  <Override PartName="/ppt/media/image47.wmf" ContentType="image/x-wmf"/>
  <Override PartName="/ppt/media/image15.wmf" ContentType="image/x-wmf"/>
  <Override PartName="/ppt/media/image7.png" ContentType="image/png"/>
  <Override PartName="/ppt/media/image40.wmf" ContentType="image/x-wmf"/>
  <Override PartName="/ppt/media/image26.png" ContentType="image/png"/>
  <Override PartName="/ppt/media/image11.wmf" ContentType="image/x-wmf"/>
  <Override PartName="/ppt/media/image48.wmf" ContentType="image/x-wmf"/>
  <Override PartName="/ppt/media/image8.wmf" ContentType="image/x-wmf"/>
  <Override PartName="/ppt/media/image38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51.wmf" ContentType="image/x-wmf"/>
  <Override PartName="/ppt/media/image52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59.gif" ContentType="image/gif"/>
  <Override PartName="/ppt/media/image49.wmf" ContentType="image/x-wmf"/>
  <Override PartName="/ppt/media/image12.wmf" ContentType="image/x-wmf"/>
  <Override PartName="/ppt/media/image4.png" ContentType="image/png"/>
  <Override PartName="/ppt/media/image44.wmf" ContentType="image/x-wmf"/>
  <Override PartName="/ppt/media/image56.wmf" ContentType="image/x-wmf"/>
  <Override PartName="/ppt/media/image41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32.wmf" ContentType="image/x-wmf"/>
  <Override PartName="/ppt/media/image31.wmf" ContentType="image/x-wmf"/>
  <Override PartName="/ppt/media/image27.png" ContentType="image/png"/>
  <Override PartName="/ppt/media/image30.wmf" ContentType="image/x-wmf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F4B1-9411-48D7-A503-A5DCCE617D5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DA4F-1E95-46CB-B52B-1E12C2E4FCF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33D-1823-4FD5-9FED-398B2AF1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817-96C9-46C2-8D1E-C73C00AC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26C-A8EE-4B3D-8C1B-E23EDDF0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4948-B064-46ED-BC03-B90BE9F2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8CAF-2447-4A96-981B-41F6BF7A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5923-086C-4446-9E61-DB7CE57F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E023-1D2D-43DA-B99E-81D42AD5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F53-CC22-460D-B7E7-CB247CA0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EEE-39C5-4259-932E-F85A1ACC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E76-05DB-4FFE-81EA-59A6DED3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47BA-EB98-442B-B32E-393EBC78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5F35-4050-4EFC-8AD2-56328694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A56C-7A08-42F8-A7B3-3B5642F889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51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52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53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54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55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56.wmf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58.wmf"/><Relationship Id="rId10" Type="http://schemas.openxmlformats.org/officeDocument/2006/relationships/image" Target="../media/image59.gi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package" Target="../embeddings/oleObject2.docx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7.wm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2.wm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3.wmf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31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7.bin"/><Relationship Id="rId24" Type="http://schemas.openxmlformats.org/officeDocument/2006/relationships/image" Target="../media/image33.wmf"/><Relationship Id="rId25" Type="http://schemas.openxmlformats.org/officeDocument/2006/relationships/oleObject" Target="../embeddings/oleObject8.bin"/><Relationship Id="rId26" Type="http://schemas.openxmlformats.org/officeDocument/2006/relationships/image" Target="../media/image34.wmf"/><Relationship Id="rId27" Type="http://schemas.openxmlformats.org/officeDocument/2006/relationships/oleObject" Target="../embeddings/oleObject9.bin"/><Relationship Id="rId28" Type="http://schemas.openxmlformats.org/officeDocument/2006/relationships/image" Target="../media/image35.wmf"/><Relationship Id="rId29" Type="http://schemas.openxmlformats.org/officeDocument/2006/relationships/oleObject" Target="../embeddings/oleObject10.bin"/><Relationship Id="rId30" Type="http://schemas.openxmlformats.org/officeDocument/2006/relationships/image" Target="../media/image36.wmf"/><Relationship Id="rId3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36.wmf"/><Relationship Id="rId23" Type="http://schemas.openxmlformats.org/officeDocument/2006/relationships/oleObject" Target="../embeddings/oleObject7.bin"/><Relationship Id="rId24" Type="http://schemas.openxmlformats.org/officeDocument/2006/relationships/image" Target="../media/image38.wmf"/><Relationship Id="rId25" Type="http://schemas.openxmlformats.org/officeDocument/2006/relationships/oleObject" Target="../embeddings/oleObject8.bin"/><Relationship Id="rId26" Type="http://schemas.openxmlformats.org/officeDocument/2006/relationships/image" Target="../media/image39.wmf"/><Relationship Id="rId27" Type="http://schemas.openxmlformats.org/officeDocument/2006/relationships/oleObject" Target="../embeddings/oleObject9.bin"/><Relationship Id="rId28" Type="http://schemas.openxmlformats.org/officeDocument/2006/relationships/image" Target="../media/image40.wmf"/><Relationship Id="rId29" Type="http://schemas.openxmlformats.org/officeDocument/2006/relationships/oleObject" Target="../embeddings/oleObject10.bin"/><Relationship Id="rId30" Type="http://schemas.openxmlformats.org/officeDocument/2006/relationships/image" Target="../media/image41.wmf"/><Relationship Id="rId3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45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46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47.wmf"/><Relationship Id="rId23" Type="http://schemas.openxmlformats.org/officeDocument/2006/relationships/oleObject" Target="../embeddings/oleObject7.bin"/><Relationship Id="rId24" Type="http://schemas.openxmlformats.org/officeDocument/2006/relationships/image" Target="../media/image48.wmf"/><Relationship Id="rId25" Type="http://schemas.openxmlformats.org/officeDocument/2006/relationships/oleObject" Target="../embeddings/oleObject8.bin"/><Relationship Id="rId26" Type="http://schemas.openxmlformats.org/officeDocument/2006/relationships/image" Target="../media/image49.wmf"/><Relationship Id="rId27" Type="http://schemas.openxmlformats.org/officeDocument/2006/relationships/oleObject" Target="../embeddings/oleObject9.bin"/><Relationship Id="rId28" Type="http://schemas.openxmlformats.org/officeDocument/2006/relationships/image" Target="../media/image50.wmf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500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2.1.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高阶导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圆角矩形 4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6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6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6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7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52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阶导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7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78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15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929120" y="6318360"/>
            <a:ext cx="1019160" cy="453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4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972040" y="6246720"/>
            <a:ext cx="1019160" cy="4539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5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6907320" y="6253200"/>
            <a:ext cx="1047600" cy="4302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6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7872480" y="6237360"/>
            <a:ext cx="1020600" cy="447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7" descr="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4940280" y="6264360"/>
            <a:ext cx="1050840" cy="439560"/>
          </a:xfrm>
          <a:prstGeom prst="rect">
            <a:avLst/>
          </a:prstGeom>
          <a:ln w="0">
            <a:noFill/>
          </a:ln>
        </p:spPr>
      </p:pic>
      <p:sp>
        <p:nvSpPr>
          <p:cNvPr id="386" name="Picture 18"/>
          <p:cNvSpPr/>
          <p:nvPr/>
        </p:nvSpPr>
        <p:spPr>
          <a:xfrm>
            <a:off x="539640" y="693720"/>
            <a:ext cx="835200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3"/>
          <p:cNvSpPr/>
          <p:nvPr/>
        </p:nvSpPr>
        <p:spPr>
          <a:xfrm>
            <a:off x="900000" y="981000"/>
            <a:ext cx="711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Book Antiqua"/>
              </a:rPr>
              <a:t>练习   </a:t>
            </a: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求对数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ln(1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阶导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1"/>
          <p:cNvGrpSpPr/>
          <p:nvPr/>
        </p:nvGrpSpPr>
        <p:grpSpPr>
          <a:xfrm>
            <a:off x="954000" y="1773360"/>
            <a:ext cx="5356440" cy="600120"/>
            <a:chOff x="954000" y="1773360"/>
            <a:chExt cx="5356440" cy="600120"/>
          </a:xfrm>
        </p:grpSpPr>
        <p:sp>
          <p:nvSpPr>
            <p:cNvPr id="389" name="Rectangle 35"/>
            <p:cNvSpPr/>
            <p:nvPr/>
          </p:nvSpPr>
          <p:spPr>
            <a:xfrm>
              <a:off x="954000" y="1773360"/>
              <a:ext cx="53564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n(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0" name="Object 7"/>
            <p:cNvGraphicFramePr/>
            <p:nvPr/>
          </p:nvGraphicFramePr>
          <p:xfrm>
            <a:off x="3924000" y="1803600"/>
            <a:ext cx="1717200" cy="569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91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924000" y="1803600"/>
                      <a:ext cx="1717200" cy="5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92" name="Object 14"/>
          <p:cNvGraphicFramePr/>
          <p:nvPr/>
        </p:nvGraphicFramePr>
        <p:xfrm>
          <a:off x="3276720" y="2565360"/>
          <a:ext cx="251928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3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2565360"/>
                    <a:ext cx="25192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13"/>
          <p:cNvGraphicFramePr/>
          <p:nvPr/>
        </p:nvGraphicFramePr>
        <p:xfrm>
          <a:off x="1255680" y="3454560"/>
          <a:ext cx="2668680" cy="465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5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55680" y="3454560"/>
                    <a:ext cx="26686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4"/>
          <p:cNvGraphicFramePr/>
          <p:nvPr/>
        </p:nvGraphicFramePr>
        <p:xfrm>
          <a:off x="4284720" y="3454560"/>
          <a:ext cx="3074760" cy="474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84720" y="3454560"/>
                    <a:ext cx="30747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Group 15"/>
          <p:cNvGrpSpPr/>
          <p:nvPr/>
        </p:nvGrpSpPr>
        <p:grpSpPr>
          <a:xfrm>
            <a:off x="634680" y="4106880"/>
            <a:ext cx="6491520" cy="546120"/>
            <a:chOff x="634680" y="4106880"/>
            <a:chExt cx="6491520" cy="546120"/>
          </a:xfrm>
        </p:grpSpPr>
        <p:graphicFrame>
          <p:nvGraphicFramePr>
            <p:cNvPr id="399" name="Object 16"/>
            <p:cNvGraphicFramePr/>
            <p:nvPr/>
          </p:nvGraphicFramePr>
          <p:xfrm>
            <a:off x="2916360" y="4106880"/>
            <a:ext cx="4209840" cy="546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0" name="Object 16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916360" y="4106880"/>
                      <a:ext cx="420984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1" name="Rectangle 24"/>
            <p:cNvSpPr/>
            <p:nvPr/>
          </p:nvSpPr>
          <p:spPr>
            <a:xfrm>
              <a:off x="634680" y="4147920"/>
              <a:ext cx="169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一般地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可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18"/>
          <p:cNvGrpSpPr/>
          <p:nvPr/>
        </p:nvGrpSpPr>
        <p:grpSpPr>
          <a:xfrm>
            <a:off x="403920" y="4921200"/>
            <a:ext cx="5277600" cy="869760"/>
            <a:chOff x="403920" y="4921200"/>
            <a:chExt cx="5277600" cy="869760"/>
          </a:xfrm>
        </p:grpSpPr>
        <p:graphicFrame>
          <p:nvGraphicFramePr>
            <p:cNvPr id="403" name="Object 19"/>
            <p:cNvGraphicFramePr/>
            <p:nvPr/>
          </p:nvGraphicFramePr>
          <p:xfrm>
            <a:off x="1908000" y="4921200"/>
            <a:ext cx="3773520" cy="8697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4" name="Object 19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908000" y="4921200"/>
                      <a:ext cx="3773520" cy="86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5" name="Rectangle 26"/>
            <p:cNvSpPr/>
            <p:nvPr/>
          </p:nvSpPr>
          <p:spPr>
            <a:xfrm>
              <a:off x="403920" y="5013000"/>
              <a:ext cx="104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18"/>
          <p:cNvSpPr/>
          <p:nvPr/>
        </p:nvSpPr>
        <p:spPr>
          <a:xfrm>
            <a:off x="-1440" y="6453360"/>
            <a:ext cx="469800" cy="404640"/>
          </a:xfrm>
          <a:custGeom>
            <a:avLst/>
            <a:gdLst>
              <a:gd name="textAreaLeft" fmla="*/ 0 w 469800"/>
              <a:gd name="textAreaRight" fmla="*/ 470160 w 4698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0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1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1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1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0" name="Object 4"/>
          <p:cNvGraphicFramePr/>
          <p:nvPr/>
        </p:nvGraphicFramePr>
        <p:xfrm>
          <a:off x="1171440" y="1646280"/>
          <a:ext cx="6801120" cy="2214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21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71440" y="1646280"/>
                    <a:ext cx="6801120" cy="22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60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阶导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2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2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链接软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1" name="Object 31"/>
          <p:cNvGraphicFramePr/>
          <p:nvPr/>
        </p:nvGraphicFramePr>
        <p:xfrm>
          <a:off x="2254320" y="2781360"/>
          <a:ext cx="4635360" cy="21970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432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54320" y="2781360"/>
                    <a:ext cx="463536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3" name="组合 19"/>
          <p:cNvGrpSpPr/>
          <p:nvPr/>
        </p:nvGrpSpPr>
        <p:grpSpPr>
          <a:xfrm>
            <a:off x="3470400" y="4730760"/>
            <a:ext cx="1906560" cy="714240"/>
            <a:chOff x="3470400" y="4730760"/>
            <a:chExt cx="1906560" cy="714240"/>
          </a:xfrm>
        </p:grpSpPr>
        <p:pic>
          <p:nvPicPr>
            <p:cNvPr id="434" name="Picture 33" descr="00066"/>
            <p:cNvPicPr/>
            <p:nvPr/>
          </p:nvPicPr>
          <p:blipFill>
            <a:blip r:embed="rId10"/>
            <a:stretch/>
          </p:blipFill>
          <p:spPr>
            <a:xfrm>
              <a:off x="3470400" y="473076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Box 23"/>
            <p:cNvSpPr/>
            <p:nvPr/>
          </p:nvSpPr>
          <p:spPr>
            <a:xfrm>
              <a:off x="4342680" y="4802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操作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18"/>
          <p:cNvSpPr/>
          <p:nvPr/>
        </p:nvSpPr>
        <p:spPr>
          <a:xfrm>
            <a:off x="-1440" y="6453360"/>
            <a:ext cx="469800" cy="404640"/>
          </a:xfrm>
          <a:custGeom>
            <a:avLst/>
            <a:gdLst>
              <a:gd name="textAreaLeft" fmla="*/ 0 w 469800"/>
              <a:gd name="textAreaRight" fmla="*/ 470160 w 4698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3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4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4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4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50"/>
          <p:cNvSpPr/>
          <p:nvPr/>
        </p:nvSpPr>
        <p:spPr>
          <a:xfrm>
            <a:off x="3024360" y="3170160"/>
            <a:ext cx="30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高阶导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51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阶导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5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5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做一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2124000" y="1268280"/>
          <a:ext cx="4444920" cy="1363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1268280"/>
                    <a:ext cx="444492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阶导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4"/>
          <p:cNvGraphicFramePr/>
          <p:nvPr/>
        </p:nvGraphicFramePr>
        <p:xfrm>
          <a:off x="838080" y="2565360"/>
          <a:ext cx="7405920" cy="29084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74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2565360"/>
                    <a:ext cx="740592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8" name="Object 4"/>
          <p:cNvGraphicFramePr/>
          <p:nvPr/>
        </p:nvGraphicFramePr>
        <p:xfrm>
          <a:off x="639720" y="836640"/>
          <a:ext cx="7702560" cy="50515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9720" y="836640"/>
                    <a:ext cx="770256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1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阶导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圆角矩形 1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1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阶导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1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18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1" name="Object 30"/>
          <p:cNvGraphicFramePr/>
          <p:nvPr/>
        </p:nvGraphicFramePr>
        <p:xfrm>
          <a:off x="611280" y="1052640"/>
          <a:ext cx="7948440" cy="4706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2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1052640"/>
                    <a:ext cx="7948440" cy="47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2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2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3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3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6" name="Object 4"/>
          <p:cNvGraphicFramePr/>
          <p:nvPr/>
        </p:nvGraphicFramePr>
        <p:xfrm>
          <a:off x="1116000" y="981000"/>
          <a:ext cx="6769080" cy="1700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981000"/>
                    <a:ext cx="676908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52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阶导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4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4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7" name="Object 30"/>
          <p:cNvGraphicFramePr/>
          <p:nvPr/>
        </p:nvGraphicFramePr>
        <p:xfrm>
          <a:off x="1042920" y="2205000"/>
          <a:ext cx="1122480" cy="728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48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2205000"/>
                    <a:ext cx="112248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4"/>
          <p:cNvGraphicFramePr/>
          <p:nvPr/>
        </p:nvGraphicFramePr>
        <p:xfrm>
          <a:off x="2195640" y="2276640"/>
          <a:ext cx="2771640" cy="504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95640" y="2276640"/>
                    <a:ext cx="27716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31"/>
          <p:cNvGraphicFramePr/>
          <p:nvPr/>
        </p:nvGraphicFramePr>
        <p:xfrm>
          <a:off x="5148360" y="2276640"/>
          <a:ext cx="1647720" cy="504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2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48360" y="2276640"/>
                    <a:ext cx="16477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32"/>
          <p:cNvGraphicFramePr/>
          <p:nvPr/>
        </p:nvGraphicFramePr>
        <p:xfrm>
          <a:off x="1763640" y="2924280"/>
          <a:ext cx="3024360" cy="558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4" name="Object 3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63640" y="2924280"/>
                    <a:ext cx="3024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33"/>
          <p:cNvGraphicFramePr/>
          <p:nvPr/>
        </p:nvGraphicFramePr>
        <p:xfrm>
          <a:off x="2411280" y="3573360"/>
          <a:ext cx="3673440" cy="5097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6" name="Object 3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11280" y="3573360"/>
                    <a:ext cx="36734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4"/>
          <p:cNvGraphicFramePr/>
          <p:nvPr/>
        </p:nvGraphicFramePr>
        <p:xfrm>
          <a:off x="2843280" y="4221000"/>
          <a:ext cx="2736720" cy="468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58" name="Object 3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43280" y="4221000"/>
                    <a:ext cx="27367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圆角矩形 2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6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6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6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7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52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阶导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7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78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1" name="Object 30"/>
          <p:cNvGraphicFramePr/>
          <p:nvPr/>
        </p:nvGraphicFramePr>
        <p:xfrm>
          <a:off x="1395360" y="1122480"/>
          <a:ext cx="6327720" cy="1011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82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95360" y="1122480"/>
                    <a:ext cx="632772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3"/>
          <p:cNvGraphicFramePr/>
          <p:nvPr/>
        </p:nvGraphicFramePr>
        <p:xfrm>
          <a:off x="1042920" y="2205000"/>
          <a:ext cx="1122480" cy="728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2205000"/>
                    <a:ext cx="112248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7"/>
          <p:cNvGraphicFramePr/>
          <p:nvPr/>
        </p:nvGraphicFramePr>
        <p:xfrm>
          <a:off x="2340000" y="2205000"/>
          <a:ext cx="3095640" cy="609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6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40000" y="2205000"/>
                    <a:ext cx="3095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8"/>
          <p:cNvGraphicFramePr/>
          <p:nvPr/>
        </p:nvGraphicFramePr>
        <p:xfrm>
          <a:off x="2411280" y="2852640"/>
          <a:ext cx="2521080" cy="573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8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11280" y="2852640"/>
                    <a:ext cx="25210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9"/>
          <p:cNvGraphicFramePr/>
          <p:nvPr/>
        </p:nvGraphicFramePr>
        <p:xfrm>
          <a:off x="2484360" y="3357720"/>
          <a:ext cx="1871640" cy="982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0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84360" y="3357720"/>
                    <a:ext cx="187164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0"/>
          <p:cNvGraphicFramePr/>
          <p:nvPr/>
        </p:nvGraphicFramePr>
        <p:xfrm>
          <a:off x="2627280" y="4724280"/>
          <a:ext cx="2217600" cy="542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92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627280" y="4724280"/>
                    <a:ext cx="2217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9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9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0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0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52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阶导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0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1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8"/>
          <p:cNvSpPr/>
          <p:nvPr/>
        </p:nvSpPr>
        <p:spPr>
          <a:xfrm>
            <a:off x="900000" y="29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3"/>
          <p:cNvGraphicFramePr/>
          <p:nvPr/>
        </p:nvGraphicFramePr>
        <p:xfrm>
          <a:off x="3030480" y="3284640"/>
          <a:ext cx="2073240" cy="950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7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30480" y="3284640"/>
                    <a:ext cx="207324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Picture 15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4929120" y="6318360"/>
            <a:ext cx="1019160" cy="453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5972040" y="6246720"/>
            <a:ext cx="1019160" cy="453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5" descr="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6907320" y="6253200"/>
            <a:ext cx="1047600" cy="430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7872480" y="6237360"/>
            <a:ext cx="1020600" cy="447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7" descr="">
            <a:hlinkClick r:id="" action="ppaction://hlinkshowjump?jump=previousslide"/>
          </p:cNvPr>
          <p:cNvPicPr/>
          <p:nvPr/>
        </p:nvPicPr>
        <p:blipFill>
          <a:blip r:embed="rId12"/>
          <a:stretch/>
        </p:blipFill>
        <p:spPr>
          <a:xfrm>
            <a:off x="4940280" y="6264360"/>
            <a:ext cx="1050840" cy="43956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9"/>
          <p:cNvGrpSpPr/>
          <p:nvPr/>
        </p:nvGrpSpPr>
        <p:grpSpPr>
          <a:xfrm>
            <a:off x="395280" y="1844640"/>
            <a:ext cx="8280360" cy="459720"/>
            <a:chOff x="395280" y="1844640"/>
            <a:chExt cx="8280360" cy="459720"/>
          </a:xfrm>
        </p:grpSpPr>
        <p:sp>
          <p:nvSpPr>
            <p:cNvPr id="224" name="TextBox 3"/>
            <p:cNvSpPr/>
            <p:nvPr/>
          </p:nvSpPr>
          <p:spPr>
            <a:xfrm>
              <a:off x="395280" y="184464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首先，方程两边同时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导，注意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函数，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5" name="Object 11"/>
            <p:cNvGraphicFramePr/>
            <p:nvPr/>
          </p:nvGraphicFramePr>
          <p:xfrm>
            <a:off x="4211640" y="1917000"/>
            <a:ext cx="241200" cy="360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6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211640" y="1917000"/>
                      <a:ext cx="24120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Object 10"/>
            <p:cNvGraphicFramePr/>
            <p:nvPr/>
          </p:nvGraphicFramePr>
          <p:xfrm>
            <a:off x="6228000" y="1917000"/>
            <a:ext cx="288000" cy="3610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28" name="Object 1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28000" y="1917000"/>
                      <a:ext cx="288000" cy="36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Object 13"/>
            <p:cNvGraphicFramePr/>
            <p:nvPr/>
          </p:nvGraphicFramePr>
          <p:xfrm>
            <a:off x="6659640" y="1917000"/>
            <a:ext cx="328680" cy="360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0" name="Object 1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59640" y="1917000"/>
                      <a:ext cx="328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4"/>
          <p:cNvGrpSpPr/>
          <p:nvPr/>
        </p:nvGrpSpPr>
        <p:grpSpPr>
          <a:xfrm>
            <a:off x="755640" y="4292640"/>
            <a:ext cx="5261040" cy="825480"/>
            <a:chOff x="755640" y="4292640"/>
            <a:chExt cx="5261040" cy="825480"/>
          </a:xfrm>
        </p:grpSpPr>
        <p:sp>
          <p:nvSpPr>
            <p:cNvPr id="232" name="TextBox 17"/>
            <p:cNvSpPr/>
            <p:nvPr/>
          </p:nvSpPr>
          <p:spPr>
            <a:xfrm>
              <a:off x="755640" y="4292640"/>
              <a:ext cx="526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上式两边继续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导，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3" name="Object 16"/>
            <p:cNvGraphicFramePr/>
            <p:nvPr/>
          </p:nvGraphicFramePr>
          <p:xfrm>
            <a:off x="2916000" y="4364280"/>
            <a:ext cx="328680" cy="360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34" name="Object 16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916000" y="4364280"/>
                      <a:ext cx="328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35" name="Object 17"/>
          <p:cNvGraphicFramePr/>
          <p:nvPr/>
        </p:nvGraphicFramePr>
        <p:xfrm>
          <a:off x="2309760" y="4854600"/>
          <a:ext cx="2691000" cy="955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6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309760" y="4854600"/>
                    <a:ext cx="269100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icture 18"/>
          <p:cNvSpPr/>
          <p:nvPr/>
        </p:nvSpPr>
        <p:spPr>
          <a:xfrm>
            <a:off x="539640" y="693720"/>
            <a:ext cx="835200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19"/>
          <p:cNvGraphicFramePr/>
          <p:nvPr/>
        </p:nvGraphicFramePr>
        <p:xfrm>
          <a:off x="2816280" y="2276640"/>
          <a:ext cx="3294000" cy="914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9" name="Object 1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816280" y="2276640"/>
                    <a:ext cx="3294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20"/>
          <p:cNvGraphicFramePr/>
          <p:nvPr/>
        </p:nvGraphicFramePr>
        <p:xfrm>
          <a:off x="971640" y="692280"/>
          <a:ext cx="7272360" cy="1268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41" name="Object 2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971640" y="692280"/>
                    <a:ext cx="727236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6"/>
          <p:cNvGraphicFramePr/>
          <p:nvPr/>
        </p:nvGraphicFramePr>
        <p:xfrm>
          <a:off x="5219640" y="4941720"/>
          <a:ext cx="2082960" cy="954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219640" y="4941720"/>
                    <a:ext cx="2082960" cy="9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44" name="直接箭头连接符 73"/>
          <p:cNvCxnSpPr/>
          <p:nvPr/>
        </p:nvCxnSpPr>
        <p:spPr>
          <a:xfrm>
            <a:off x="3492000" y="3933360"/>
            <a:ext cx="1367640" cy="12963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graphicFrame>
        <p:nvGraphicFramePr>
          <p:cNvPr id="245" name="Object 12"/>
          <p:cNvGraphicFramePr/>
          <p:nvPr/>
        </p:nvGraphicFramePr>
        <p:xfrm>
          <a:off x="4572000" y="4292640"/>
          <a:ext cx="750960" cy="4428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46" name="Object 1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572000" y="4292640"/>
                    <a:ext cx="7509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3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4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5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5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5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52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阶导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6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6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Box 8"/>
          <p:cNvSpPr/>
          <p:nvPr/>
        </p:nvSpPr>
        <p:spPr>
          <a:xfrm>
            <a:off x="900000" y="29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929120" y="6318360"/>
            <a:ext cx="1019160" cy="453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4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972040" y="6246720"/>
            <a:ext cx="1019160" cy="453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5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6907320" y="6253200"/>
            <a:ext cx="1047600" cy="430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7872480" y="6237360"/>
            <a:ext cx="1020600" cy="447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7" descr="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4940280" y="6264360"/>
            <a:ext cx="1050840" cy="43956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9"/>
          <p:cNvGrpSpPr/>
          <p:nvPr/>
        </p:nvGrpSpPr>
        <p:grpSpPr>
          <a:xfrm>
            <a:off x="395280" y="1844640"/>
            <a:ext cx="8280360" cy="459720"/>
            <a:chOff x="395280" y="1844640"/>
            <a:chExt cx="8280360" cy="459720"/>
          </a:xfrm>
        </p:grpSpPr>
        <p:sp>
          <p:nvSpPr>
            <p:cNvPr id="276" name="TextBox 3"/>
            <p:cNvSpPr/>
            <p:nvPr/>
          </p:nvSpPr>
          <p:spPr>
            <a:xfrm>
              <a:off x="395280" y="184464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首先，方程两边同时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导，注意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函数，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7" name="Object 11"/>
            <p:cNvGraphicFramePr/>
            <p:nvPr/>
          </p:nvGraphicFramePr>
          <p:xfrm>
            <a:off x="4211640" y="1917000"/>
            <a:ext cx="241200" cy="360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8" name="Object 1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211640" y="1917000"/>
                      <a:ext cx="24120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Object 10"/>
            <p:cNvGraphicFramePr/>
            <p:nvPr/>
          </p:nvGraphicFramePr>
          <p:xfrm>
            <a:off x="6228000" y="1917000"/>
            <a:ext cx="288000" cy="361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0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228000" y="1917000"/>
                      <a:ext cx="288000" cy="36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11"/>
            <p:cNvGraphicFramePr/>
            <p:nvPr/>
          </p:nvGraphicFramePr>
          <p:xfrm>
            <a:off x="6659640" y="1917000"/>
            <a:ext cx="328680" cy="360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82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659640" y="1917000"/>
                      <a:ext cx="328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3" name="Group 14"/>
          <p:cNvGrpSpPr/>
          <p:nvPr/>
        </p:nvGrpSpPr>
        <p:grpSpPr>
          <a:xfrm>
            <a:off x="755640" y="4292640"/>
            <a:ext cx="5261040" cy="825480"/>
            <a:chOff x="755640" y="4292640"/>
            <a:chExt cx="5261040" cy="825480"/>
          </a:xfrm>
        </p:grpSpPr>
        <p:sp>
          <p:nvSpPr>
            <p:cNvPr id="284" name="TextBox 17"/>
            <p:cNvSpPr/>
            <p:nvPr/>
          </p:nvSpPr>
          <p:spPr>
            <a:xfrm>
              <a:off x="755640" y="4292640"/>
              <a:ext cx="526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上式两边继续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导，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5" name="Object 16"/>
            <p:cNvGraphicFramePr/>
            <p:nvPr/>
          </p:nvGraphicFramePr>
          <p:xfrm>
            <a:off x="2916000" y="4364280"/>
            <a:ext cx="328680" cy="360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86" name="Object 16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916000" y="4364280"/>
                      <a:ext cx="328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7" name="Picture 18"/>
          <p:cNvSpPr/>
          <p:nvPr/>
        </p:nvSpPr>
        <p:spPr>
          <a:xfrm>
            <a:off x="539640" y="693720"/>
            <a:ext cx="835200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20"/>
          <p:cNvGraphicFramePr/>
          <p:nvPr/>
        </p:nvGraphicFramePr>
        <p:xfrm>
          <a:off x="816120" y="765000"/>
          <a:ext cx="7643520" cy="101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9" name="Object 2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16120" y="765000"/>
                    <a:ext cx="7643520" cy="10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90" name="直接箭头连接符 94"/>
          <p:cNvCxnSpPr/>
          <p:nvPr/>
        </p:nvCxnSpPr>
        <p:spPr>
          <a:xfrm>
            <a:off x="3492000" y="3933360"/>
            <a:ext cx="1367640" cy="12963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graphicFrame>
        <p:nvGraphicFramePr>
          <p:cNvPr id="291" name="Object 12"/>
          <p:cNvGraphicFramePr/>
          <p:nvPr/>
        </p:nvGraphicFramePr>
        <p:xfrm>
          <a:off x="4572000" y="4292640"/>
          <a:ext cx="750960" cy="44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2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72000" y="4292640"/>
                    <a:ext cx="7509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29"/>
          <p:cNvGraphicFramePr/>
          <p:nvPr/>
        </p:nvGraphicFramePr>
        <p:xfrm>
          <a:off x="3492360" y="2389320"/>
          <a:ext cx="1871640" cy="503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94" name="Object 2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92360" y="2389320"/>
                    <a:ext cx="18716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13"/>
          <p:cNvGraphicFramePr/>
          <p:nvPr/>
        </p:nvGraphicFramePr>
        <p:xfrm>
          <a:off x="3132000" y="3068640"/>
          <a:ext cx="1295640" cy="973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96" name="Object 1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132000" y="3068640"/>
                    <a:ext cx="12956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21"/>
          <p:cNvGraphicFramePr/>
          <p:nvPr/>
        </p:nvGraphicFramePr>
        <p:xfrm>
          <a:off x="3059280" y="4941720"/>
          <a:ext cx="2236680" cy="11923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98" name="Object 2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059280" y="4941720"/>
                    <a:ext cx="223668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23"/>
          <p:cNvGraphicFramePr/>
          <p:nvPr/>
        </p:nvGraphicFramePr>
        <p:xfrm>
          <a:off x="5364000" y="4797360"/>
          <a:ext cx="2303640" cy="1214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00" name="Object 23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64000" y="4797360"/>
                    <a:ext cx="230364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圆角矩形 4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0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0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0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1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52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阶导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1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2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3" name="Picture 15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929120" y="6318360"/>
            <a:ext cx="1019160" cy="453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4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972040" y="6246720"/>
            <a:ext cx="1019160" cy="4539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5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6907320" y="6253200"/>
            <a:ext cx="1047600" cy="430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6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7872480" y="6237360"/>
            <a:ext cx="1020600" cy="4474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7" descr="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4940280" y="6264360"/>
            <a:ext cx="1050840" cy="439560"/>
          </a:xfrm>
          <a:prstGeom prst="rect">
            <a:avLst/>
          </a:prstGeom>
          <a:ln w="0">
            <a:noFill/>
          </a:ln>
        </p:spPr>
      </p:pic>
      <p:sp>
        <p:nvSpPr>
          <p:cNvPr id="328" name="Picture 18"/>
          <p:cNvSpPr/>
          <p:nvPr/>
        </p:nvSpPr>
        <p:spPr>
          <a:xfrm>
            <a:off x="539640" y="693720"/>
            <a:ext cx="835200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9"/>
          <p:cNvGrpSpPr/>
          <p:nvPr/>
        </p:nvGrpSpPr>
        <p:grpSpPr>
          <a:xfrm>
            <a:off x="468360" y="836640"/>
            <a:ext cx="8675640" cy="642600"/>
            <a:chOff x="468360" y="836640"/>
            <a:chExt cx="8675640" cy="642600"/>
          </a:xfrm>
        </p:grpSpPr>
        <p:sp>
          <p:nvSpPr>
            <p:cNvPr id="330" name="Rectangle 32"/>
            <p:cNvSpPr/>
            <p:nvPr/>
          </p:nvSpPr>
          <p:spPr>
            <a:xfrm>
              <a:off x="468360" y="836640"/>
              <a:ext cx="867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幂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函数　　　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是任意常数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)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 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阶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导数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31" name="Object 11"/>
            <p:cNvGraphicFramePr/>
            <p:nvPr/>
          </p:nvGraphicFramePr>
          <p:xfrm>
            <a:off x="2484360" y="907920"/>
            <a:ext cx="800280" cy="547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32" name="Object 1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484360" y="907920"/>
                      <a:ext cx="800280" cy="5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33" name="Object 12"/>
          <p:cNvGraphicFramePr/>
          <p:nvPr/>
        </p:nvGraphicFramePr>
        <p:xfrm>
          <a:off x="2340000" y="2349360"/>
          <a:ext cx="3168720" cy="57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4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40000" y="2349360"/>
                    <a:ext cx="316872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5" name="Group 25"/>
          <p:cNvGrpSpPr/>
          <p:nvPr/>
        </p:nvGrpSpPr>
        <p:grpSpPr>
          <a:xfrm>
            <a:off x="524520" y="1486080"/>
            <a:ext cx="3229920" cy="533160"/>
            <a:chOff x="524520" y="1486080"/>
            <a:chExt cx="3229920" cy="533160"/>
          </a:xfrm>
        </p:grpSpPr>
        <p:graphicFrame>
          <p:nvGraphicFramePr>
            <p:cNvPr id="336" name="Object 26"/>
            <p:cNvGraphicFramePr/>
            <p:nvPr/>
          </p:nvGraphicFramePr>
          <p:xfrm>
            <a:off x="2340000" y="1486080"/>
            <a:ext cx="1414440" cy="5331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37" name="Object 26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340000" y="1486080"/>
                      <a:ext cx="141444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8" name="Rectangle 33"/>
            <p:cNvSpPr/>
            <p:nvPr/>
          </p:nvSpPr>
          <p:spPr>
            <a:xfrm>
              <a:off x="524520" y="1557360"/>
              <a:ext cx="100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9" name="Object 29"/>
          <p:cNvGraphicFramePr/>
          <p:nvPr/>
        </p:nvGraphicFramePr>
        <p:xfrm>
          <a:off x="2340000" y="1844640"/>
          <a:ext cx="2303280" cy="576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0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40000" y="1844640"/>
                    <a:ext cx="23032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10"/>
          <p:cNvGraphicFramePr/>
          <p:nvPr/>
        </p:nvGraphicFramePr>
        <p:xfrm>
          <a:off x="2340000" y="2949480"/>
          <a:ext cx="3816360" cy="550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42" name="Object 1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40000" y="2949480"/>
                    <a:ext cx="381636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Group 20"/>
          <p:cNvGrpSpPr/>
          <p:nvPr/>
        </p:nvGrpSpPr>
        <p:grpSpPr>
          <a:xfrm>
            <a:off x="780840" y="3673440"/>
            <a:ext cx="6739200" cy="525600"/>
            <a:chOff x="780840" y="3673440"/>
            <a:chExt cx="6739200" cy="525600"/>
          </a:xfrm>
        </p:grpSpPr>
        <p:graphicFrame>
          <p:nvGraphicFramePr>
            <p:cNvPr id="344" name="Object 21"/>
            <p:cNvGraphicFramePr/>
            <p:nvPr/>
          </p:nvGraphicFramePr>
          <p:xfrm>
            <a:off x="2700360" y="3673440"/>
            <a:ext cx="4819680" cy="5256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45" name="Object 21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700360" y="3673440"/>
                      <a:ext cx="481968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Rectangle 25"/>
            <p:cNvSpPr/>
            <p:nvPr/>
          </p:nvSpPr>
          <p:spPr>
            <a:xfrm>
              <a:off x="780840" y="3716280"/>
              <a:ext cx="169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一般地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可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23"/>
          <p:cNvGrpSpPr/>
          <p:nvPr/>
        </p:nvGrpSpPr>
        <p:grpSpPr>
          <a:xfrm>
            <a:off x="550080" y="4394160"/>
            <a:ext cx="6184080" cy="530280"/>
            <a:chOff x="550080" y="4394160"/>
            <a:chExt cx="6184080" cy="530280"/>
          </a:xfrm>
        </p:grpSpPr>
        <p:graphicFrame>
          <p:nvGraphicFramePr>
            <p:cNvPr id="348" name="Object 24"/>
            <p:cNvGraphicFramePr/>
            <p:nvPr/>
          </p:nvGraphicFramePr>
          <p:xfrm>
            <a:off x="1620720" y="4394160"/>
            <a:ext cx="5113440" cy="5302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49" name="Object 24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620720" y="4394160"/>
                      <a:ext cx="5113440" cy="5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0" name="Rectangle 27"/>
            <p:cNvSpPr/>
            <p:nvPr/>
          </p:nvSpPr>
          <p:spPr>
            <a:xfrm>
              <a:off x="550080" y="4437000"/>
              <a:ext cx="104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26"/>
          <p:cNvGrpSpPr/>
          <p:nvPr/>
        </p:nvGrpSpPr>
        <p:grpSpPr>
          <a:xfrm>
            <a:off x="630000" y="4941720"/>
            <a:ext cx="7580520" cy="574560"/>
            <a:chOff x="630000" y="4941720"/>
            <a:chExt cx="7580520" cy="574560"/>
          </a:xfrm>
        </p:grpSpPr>
        <p:graphicFrame>
          <p:nvGraphicFramePr>
            <p:cNvPr id="352" name="Object 27"/>
            <p:cNvGraphicFramePr/>
            <p:nvPr/>
          </p:nvGraphicFramePr>
          <p:xfrm>
            <a:off x="3170160" y="4941720"/>
            <a:ext cx="5040360" cy="5745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53" name="Object 27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170160" y="4941720"/>
                      <a:ext cx="504036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4" name="Rectangle 28"/>
            <p:cNvSpPr/>
            <p:nvPr/>
          </p:nvSpPr>
          <p:spPr>
            <a:xfrm>
              <a:off x="630000" y="500688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当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时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得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9"/>
          <p:cNvGrpSpPr/>
          <p:nvPr/>
        </p:nvGrpSpPr>
        <p:grpSpPr>
          <a:xfrm>
            <a:off x="621360" y="5589720"/>
            <a:ext cx="2972520" cy="583920"/>
            <a:chOff x="621360" y="5589720"/>
            <a:chExt cx="2972520" cy="583920"/>
          </a:xfrm>
        </p:grpSpPr>
        <p:graphicFrame>
          <p:nvGraphicFramePr>
            <p:cNvPr id="356" name="Object 30"/>
            <p:cNvGraphicFramePr/>
            <p:nvPr/>
          </p:nvGraphicFramePr>
          <p:xfrm>
            <a:off x="1763640" y="5589720"/>
            <a:ext cx="1830240" cy="5839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357" name="Object 30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1763640" y="5589720"/>
                      <a:ext cx="1830240" cy="5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8" name="Rectangle 30"/>
            <p:cNvSpPr/>
            <p:nvPr/>
          </p:nvSpPr>
          <p:spPr>
            <a:xfrm>
              <a:off x="621360" y="5628960"/>
              <a:ext cx="104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1:01Z</dcterms:modified>
  <cp:revision>79</cp:revision>
  <dc:subject/>
  <dc:title>幻灯片 1</dc:title>
</cp:coreProperties>
</file>